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5.png" ContentType="image/png"/>
  <Override PartName="/ppt/media/image2.gif" ContentType="image/gif"/>
  <Override PartName="/ppt/media/image24.wmf" ContentType="image/x-wmf"/>
  <Override PartName="/ppt/media/image28.gif" ContentType="image/gif"/>
  <Override PartName="/ppt/media/image23.wmf" ContentType="image/x-wmf"/>
  <Override PartName="/ppt/media/image27.gif" ContentType="image/gif"/>
  <Override PartName="/ppt/media/image17.wmf" ContentType="image/x-wmf"/>
  <Override PartName="/ppt/media/image16.wmf" ContentType="image/x-wmf"/>
  <Override PartName="/ppt/media/image26.gif" ContentType="image/gif"/>
  <Override PartName="/ppt/media/image22.wmf" ContentType="image/x-wmf"/>
  <Override PartName="/ppt/media/image14.wmf" ContentType="image/x-wmf"/>
  <Override PartName="/ppt/media/image3.png" ContentType="image/png"/>
  <Override PartName="/ppt/media/image6.jpeg" ContentType="image/jpeg"/>
  <Override PartName="/ppt/media/image21.wmf" ContentType="image/x-wmf"/>
  <Override PartName="/ppt/media/image12.wmf" ContentType="image/x-wmf"/>
  <Override PartName="/ppt/media/image20.wmf" ContentType="image/x-wmf"/>
  <Override PartName="/ppt/media/image18.wmf" ContentType="image/x-wmf"/>
  <Override PartName="/ppt/media/image5.jpeg" ContentType="image/jpeg"/>
  <Override PartName="/ppt/media/image48.wmf" ContentType="image/x-wmf"/>
  <Override PartName="/ppt/media/image11.gif" ContentType="image/gif"/>
  <Override PartName="/ppt/media/image4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39.wmf" ContentType="image/x-wmf"/>
  <Override PartName="/ppt/media/image41.wmf" ContentType="image/x-wmf"/>
  <Override PartName="/ppt/media/image46.wmf" ContentType="image/x-wmf"/>
  <Override PartName="/ppt/media/image55.jpeg" ContentType="image/jpeg"/>
  <Override PartName="/ppt/media/image47.wmf" ContentType="image/x-wmf"/>
  <Override PartName="/ppt/media/image45.wmf" ContentType="image/x-wmf"/>
  <Override PartName="/ppt/media/image49.gif" ContentType="image/gif"/>
  <Override PartName="/ppt/media/image37.wmf" ContentType="image/x-wmf"/>
  <Override PartName="/ppt/media/image51.wmf" ContentType="image/x-wmf"/>
  <Override PartName="/ppt/media/image52.wmf" ContentType="image/x-wmf"/>
  <Override PartName="/ppt/media/image7.png" ContentType="image/png"/>
  <Override PartName="/ppt/media/image53.wmf" ContentType="image/x-wmf"/>
  <Override PartName="/ppt/media/image42.wmf" ContentType="image/x-wmf"/>
  <Override PartName="/ppt/media/image54.wmf" ContentType="image/x-wmf"/>
  <Override PartName="/ppt/media/image40.png" ContentType="image/png"/>
  <Override PartName="/ppt/media/image38.wmf" ContentType="image/x-wmf"/>
  <Override PartName="/ppt/media/image36.wmf" ContentType="image/x-wmf"/>
  <Override PartName="/ppt/media/image33.gif" ContentType="image/gif"/>
  <Override PartName="/ppt/media/image19.wmf" ContentType="image/x-wmf"/>
  <Override PartName="/ppt/media/image32.wmf" ContentType="image/x-wmf"/>
  <Override PartName="/ppt/media/image31.wmf" ContentType="image/x-wmf"/>
  <Override PartName="/ppt/media/image13.wmf" ContentType="image/x-wmf"/>
  <Override PartName="/ppt/media/image43.wmf" ContentType="image/x-wmf"/>
  <Override PartName="/ppt/media/image10.gif" ContentType="image/gif"/>
  <Override PartName="/ppt/media/image35.wmf" ContentType="image/x-wmf"/>
  <Override PartName="/ppt/media/image9.gif" ContentType="image/gif"/>
  <Override PartName="/ppt/media/image8.gif" ContentType="image/gif"/>
  <Override PartName="/ppt/media/image34.wmf" ContentType="image/x-wmf"/>
  <Override PartName="/ppt/media/image4.gif" ContentType="image/gif"/>
  <Override PartName="/ppt/media/image3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408D-7F43-4826-8491-BA1C9061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21BA-F200-4EF4-B8C5-FCBF559E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5C32-41FC-49C4-BC11-967800B4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AE08-25CC-4139-BD32-4C757A75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1EE6-5191-4696-8AC9-2A9A7B9D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6514-3903-44A5-B1E4-9254A504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DAF7-D1AF-4E76-A12A-BAD12E06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93FD-D64F-46F7-9D29-A0AFE3E8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3725-BB35-4837-A656-2257FDA5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5344-0DAA-4DC6-9944-5E4A196A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2E6D-4E27-47C6-AFDB-7DF95364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A836-663A-4A17-999D-BA820457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9E91-0113-47B8-86BF-952F3946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A36E-1AFB-4764-BC66-CB574061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ED39-DFB2-4621-99DD-38EA2C7C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6B81-25AE-468C-81EB-135A4508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8F4A-8B5D-4EC5-9D0C-4C0606A4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9339-3B2C-463A-B0D5-C69AEBCB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301-5BA3-47CC-9E2C-8D4B97EE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5CF5-5191-4EBA-AA26-A8C5FC27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B13A-6DB7-47EA-880E-A845DA26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D42E-E539-4403-9124-60187084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5A8A-413D-486C-9504-0CCEFC04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382-87ED-4710-A1D9-70794B64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59E6-4C13-4779-B480-70AA3CE37A87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BBCA-94F7-498C-B8DF-ECCFBA358E8A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png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5760" y="26683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1.5.1 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乘方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24040" y="600120"/>
            <a:ext cx="77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）边长为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的正方形的面积记为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51040" y="2255760"/>
            <a:ext cx="78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）棱长为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的正方体的体积可记为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1640" y="1386000"/>
            <a:ext cx="22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×6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29862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×6×6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752480" y="4410000"/>
            <a:ext cx="1219320" cy="1700640"/>
            <a:chOff x="1752480" y="4410000"/>
            <a:chExt cx="1219320" cy="1700640"/>
          </a:xfrm>
        </p:grpSpPr>
        <p:sp>
          <p:nvSpPr>
            <p:cNvPr id="116" name=""/>
            <p:cNvSpPr/>
            <p:nvPr/>
          </p:nvSpPr>
          <p:spPr>
            <a:xfrm>
              <a:off x="1752480" y="4410000"/>
              <a:ext cx="121932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75840" y="5529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52480" y="562932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562932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04880" y="5829120"/>
              <a:ext cx="46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752480" y="582912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587840" y="4172040"/>
            <a:ext cx="1600200" cy="2113200"/>
            <a:chOff x="4587840" y="4172040"/>
            <a:chExt cx="1600200" cy="2113200"/>
          </a:xfrm>
        </p:grpSpPr>
        <p:sp>
          <p:nvSpPr>
            <p:cNvPr id="123" name=""/>
            <p:cNvSpPr/>
            <p:nvPr/>
          </p:nvSpPr>
          <p:spPr>
            <a:xfrm>
              <a:off x="4587840" y="4172040"/>
              <a:ext cx="1600200" cy="16002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30280" y="5700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88880" y="5703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94320" y="578988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84840" y="578988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17920" y="6004080"/>
              <a:ext cx="46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594320" y="600408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14400" y="1018800"/>
            <a:ext cx="77738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　　若正方形的边长为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a,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则面积是多少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　　若正方体的棱长为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，则正方体的体积为多少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10120" y="1479600"/>
            <a:ext cx="14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a·a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0120" y="3173400"/>
            <a:ext cx="18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a·a·a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52480" y="4410000"/>
            <a:ext cx="1219320" cy="1700640"/>
            <a:chOff x="1752480" y="4410000"/>
            <a:chExt cx="1219320" cy="1700640"/>
          </a:xfrm>
        </p:grpSpPr>
        <p:sp>
          <p:nvSpPr>
            <p:cNvPr id="134" name=""/>
            <p:cNvSpPr/>
            <p:nvPr/>
          </p:nvSpPr>
          <p:spPr>
            <a:xfrm>
              <a:off x="1752480" y="4410000"/>
              <a:ext cx="121932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75840" y="5529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52480" y="562932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71800" y="562932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4880" y="5829120"/>
              <a:ext cx="46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752480" y="582912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587840" y="4172040"/>
            <a:ext cx="1600200" cy="2081160"/>
            <a:chOff x="4587840" y="4172040"/>
            <a:chExt cx="1600200" cy="2081160"/>
          </a:xfrm>
        </p:grpSpPr>
        <p:sp>
          <p:nvSpPr>
            <p:cNvPr id="141" name=""/>
            <p:cNvSpPr/>
            <p:nvPr/>
          </p:nvSpPr>
          <p:spPr>
            <a:xfrm>
              <a:off x="4587840" y="4172040"/>
              <a:ext cx="1600200" cy="15998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15880" y="5671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94320" y="5789520"/>
              <a:ext cx="0" cy="34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84840" y="5789520"/>
              <a:ext cx="0" cy="34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17920" y="6003720"/>
              <a:ext cx="46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594320" y="600372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checker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616040" y="1014480"/>
            <a:ext cx="4103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840" y="1230480"/>
            <a:ext cx="1155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细胞分裂示意图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243080" y="2803680"/>
            <a:ext cx="745920" cy="609480"/>
            <a:chOff x="1243080" y="2803680"/>
            <a:chExt cx="745920" cy="609480"/>
          </a:xfrm>
        </p:grpSpPr>
        <p:sp>
          <p:nvSpPr>
            <p:cNvPr id="150" name=""/>
            <p:cNvSpPr/>
            <p:nvPr/>
          </p:nvSpPr>
          <p:spPr>
            <a:xfrm>
              <a:off x="1243080" y="280368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26760" y="2967120"/>
              <a:ext cx="29808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892600" y="48704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02280" y="58402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×2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19680" y="627048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×2×2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886120" y="1392120"/>
            <a:ext cx="745920" cy="609480"/>
            <a:chOff x="2886120" y="1392120"/>
            <a:chExt cx="745920" cy="609480"/>
          </a:xfrm>
        </p:grpSpPr>
        <p:sp>
          <p:nvSpPr>
            <p:cNvPr id="156" name=""/>
            <p:cNvSpPr/>
            <p:nvPr/>
          </p:nvSpPr>
          <p:spPr>
            <a:xfrm>
              <a:off x="2886120" y="139212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69800" y="1555560"/>
              <a:ext cx="29808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886120" y="4119480"/>
            <a:ext cx="745920" cy="609480"/>
            <a:chOff x="2886120" y="4119480"/>
            <a:chExt cx="745920" cy="609480"/>
          </a:xfrm>
        </p:grpSpPr>
        <p:sp>
          <p:nvSpPr>
            <p:cNvPr id="159" name=""/>
            <p:cNvSpPr/>
            <p:nvPr/>
          </p:nvSpPr>
          <p:spPr>
            <a:xfrm>
              <a:off x="2886120" y="411948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69800" y="4282920"/>
              <a:ext cx="29808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498920" y="5191200"/>
            <a:ext cx="746280" cy="609480"/>
            <a:chOff x="4498920" y="5191200"/>
            <a:chExt cx="746280" cy="609480"/>
          </a:xfrm>
        </p:grpSpPr>
        <p:sp>
          <p:nvSpPr>
            <p:cNvPr id="162" name=""/>
            <p:cNvSpPr/>
            <p:nvPr/>
          </p:nvSpPr>
          <p:spPr>
            <a:xfrm>
              <a:off x="4498920" y="5191200"/>
              <a:ext cx="74628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82960" y="535464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532400" y="3633840"/>
            <a:ext cx="745920" cy="609480"/>
            <a:chOff x="4532400" y="3633840"/>
            <a:chExt cx="745920" cy="609480"/>
          </a:xfrm>
        </p:grpSpPr>
        <p:sp>
          <p:nvSpPr>
            <p:cNvPr id="165" name=""/>
            <p:cNvSpPr/>
            <p:nvPr/>
          </p:nvSpPr>
          <p:spPr>
            <a:xfrm>
              <a:off x="4532400" y="363384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16080" y="3797280"/>
              <a:ext cx="29808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503600" y="1992240"/>
            <a:ext cx="746280" cy="609480"/>
            <a:chOff x="4503600" y="1992240"/>
            <a:chExt cx="746280" cy="609480"/>
          </a:xfrm>
        </p:grpSpPr>
        <p:sp>
          <p:nvSpPr>
            <p:cNvPr id="168" name=""/>
            <p:cNvSpPr/>
            <p:nvPr/>
          </p:nvSpPr>
          <p:spPr>
            <a:xfrm>
              <a:off x="4503600" y="1992240"/>
              <a:ext cx="74628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87640" y="215568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437000" y="568440"/>
            <a:ext cx="746280" cy="609480"/>
            <a:chOff x="4437000" y="568440"/>
            <a:chExt cx="746280" cy="609480"/>
          </a:xfrm>
        </p:grpSpPr>
        <p:sp>
          <p:nvSpPr>
            <p:cNvPr id="171" name=""/>
            <p:cNvSpPr/>
            <p:nvPr/>
          </p:nvSpPr>
          <p:spPr>
            <a:xfrm>
              <a:off x="4437000" y="568440"/>
              <a:ext cx="74628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1040" y="73188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192720" y="3170160"/>
            <a:ext cx="746280" cy="609480"/>
            <a:chOff x="6192720" y="3170160"/>
            <a:chExt cx="746280" cy="609480"/>
          </a:xfrm>
        </p:grpSpPr>
        <p:sp>
          <p:nvSpPr>
            <p:cNvPr id="174" name=""/>
            <p:cNvSpPr/>
            <p:nvPr/>
          </p:nvSpPr>
          <p:spPr>
            <a:xfrm>
              <a:off x="6192720" y="3170160"/>
              <a:ext cx="74628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76760" y="333360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62840" y="2452680"/>
            <a:ext cx="745920" cy="609480"/>
            <a:chOff x="6162840" y="2452680"/>
            <a:chExt cx="745920" cy="609480"/>
          </a:xfrm>
        </p:grpSpPr>
        <p:sp>
          <p:nvSpPr>
            <p:cNvPr id="177" name=""/>
            <p:cNvSpPr/>
            <p:nvPr/>
          </p:nvSpPr>
          <p:spPr>
            <a:xfrm>
              <a:off x="6162840" y="245268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46520" y="2616120"/>
              <a:ext cx="29808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192720" y="4824360"/>
            <a:ext cx="746280" cy="609480"/>
            <a:chOff x="6192720" y="4824360"/>
            <a:chExt cx="746280" cy="609480"/>
          </a:xfrm>
        </p:grpSpPr>
        <p:sp>
          <p:nvSpPr>
            <p:cNvPr id="180" name=""/>
            <p:cNvSpPr/>
            <p:nvPr/>
          </p:nvSpPr>
          <p:spPr>
            <a:xfrm>
              <a:off x="6192720" y="4824360"/>
              <a:ext cx="74628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76760" y="498780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192720" y="1658880"/>
            <a:ext cx="746280" cy="609480"/>
            <a:chOff x="6192720" y="1658880"/>
            <a:chExt cx="746280" cy="609480"/>
          </a:xfrm>
        </p:grpSpPr>
        <p:sp>
          <p:nvSpPr>
            <p:cNvPr id="183" name=""/>
            <p:cNvSpPr/>
            <p:nvPr/>
          </p:nvSpPr>
          <p:spPr>
            <a:xfrm>
              <a:off x="6192720" y="1658880"/>
              <a:ext cx="74628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76760" y="182232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162840" y="863640"/>
            <a:ext cx="745920" cy="609480"/>
            <a:chOff x="6162840" y="863640"/>
            <a:chExt cx="745920" cy="609480"/>
          </a:xfrm>
        </p:grpSpPr>
        <p:sp>
          <p:nvSpPr>
            <p:cNvPr id="186" name=""/>
            <p:cNvSpPr/>
            <p:nvPr/>
          </p:nvSpPr>
          <p:spPr>
            <a:xfrm>
              <a:off x="6162840" y="86364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46520" y="1027080"/>
              <a:ext cx="29808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121440" y="42840"/>
            <a:ext cx="745920" cy="609480"/>
            <a:chOff x="6121440" y="42840"/>
            <a:chExt cx="745920" cy="609480"/>
          </a:xfrm>
        </p:grpSpPr>
        <p:sp>
          <p:nvSpPr>
            <p:cNvPr id="189" name=""/>
            <p:cNvSpPr/>
            <p:nvPr/>
          </p:nvSpPr>
          <p:spPr>
            <a:xfrm>
              <a:off x="6121440" y="4284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5120" y="206280"/>
              <a:ext cx="29808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192720" y="4102200"/>
            <a:ext cx="746280" cy="609480"/>
            <a:chOff x="6192720" y="4102200"/>
            <a:chExt cx="746280" cy="609480"/>
          </a:xfrm>
        </p:grpSpPr>
        <p:sp>
          <p:nvSpPr>
            <p:cNvPr id="192" name=""/>
            <p:cNvSpPr/>
            <p:nvPr/>
          </p:nvSpPr>
          <p:spPr>
            <a:xfrm>
              <a:off x="6192720" y="4102200"/>
              <a:ext cx="74628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76760" y="426564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192720" y="5676840"/>
            <a:ext cx="746280" cy="609480"/>
            <a:chOff x="6192720" y="5676840"/>
            <a:chExt cx="746280" cy="609480"/>
          </a:xfrm>
        </p:grpSpPr>
        <p:sp>
          <p:nvSpPr>
            <p:cNvPr id="195" name=""/>
            <p:cNvSpPr/>
            <p:nvPr/>
          </p:nvSpPr>
          <p:spPr>
            <a:xfrm>
              <a:off x="6192720" y="5676840"/>
              <a:ext cx="74628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6760" y="584028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989000" y="1714320"/>
            <a:ext cx="896760" cy="2692080"/>
            <a:chOff x="1989000" y="1714320"/>
            <a:chExt cx="896760" cy="2692080"/>
          </a:xfrm>
        </p:grpSpPr>
        <p:sp>
          <p:nvSpPr>
            <p:cNvPr id="198" name=""/>
            <p:cNvSpPr/>
            <p:nvPr/>
          </p:nvSpPr>
          <p:spPr>
            <a:xfrm flipV="1">
              <a:off x="1989000" y="1714320"/>
              <a:ext cx="896760" cy="1347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89000" y="3058920"/>
              <a:ext cx="896760" cy="1347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 flipV="1">
            <a:off x="3632040" y="4101840"/>
            <a:ext cx="900360" cy="3841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32040" y="4486320"/>
            <a:ext cx="804960" cy="8683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632040" y="1026720"/>
            <a:ext cx="804960" cy="5288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32040" y="1555920"/>
            <a:ext cx="804960" cy="5997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183280" y="409320"/>
            <a:ext cx="938160" cy="3301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83280" y="731880"/>
            <a:ext cx="938160" cy="3585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278320" y="1991880"/>
            <a:ext cx="914400" cy="2761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78320" y="2268360"/>
            <a:ext cx="843120" cy="5353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278320" y="3537000"/>
            <a:ext cx="884520" cy="4636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45200" y="4000680"/>
            <a:ext cx="917640" cy="298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245200" y="5191200"/>
            <a:ext cx="917640" cy="3664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78320" y="5557680"/>
            <a:ext cx="884520" cy="4860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939000" y="7308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·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80120" y="165888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·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23240" y="88740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·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56360" y="400860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·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80120" y="317016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·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56360" y="245268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·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23240" y="482436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·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080120" y="570708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·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90680" y="5354640"/>
            <a:ext cx="1036440" cy="817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19240" y="122544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细胞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后分裂成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，经过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这种细胞由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能分裂成多少个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003400" y="3235320"/>
            <a:ext cx="4797360" cy="1545120"/>
            <a:chOff x="2003400" y="3235320"/>
            <a:chExt cx="4797360" cy="1545120"/>
          </a:xfrm>
        </p:grpSpPr>
        <p:sp>
          <p:nvSpPr>
            <p:cNvPr id="223" name=""/>
            <p:cNvSpPr/>
            <p:nvPr/>
          </p:nvSpPr>
          <p:spPr>
            <a:xfrm>
              <a:off x="2003400" y="3235320"/>
              <a:ext cx="4797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Times New Roman"/>
                </a:rPr>
                <a:t>2×2×·······×2×2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5040" y="4199040"/>
              <a:ext cx="16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10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个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6200000">
              <a:off x="3908160" y="2103120"/>
              <a:ext cx="317520" cy="375300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97560 h 3753000"/>
                <a:gd name="textAreaBottom" fmla="*/ 3655440 h 375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38"/>
                  </a:lnTo>
                  <a:cubicBezTo>
                    <a:pt x="10800" y="10238"/>
                    <a:pt x="5400" y="11138"/>
                    <a:pt x="0" y="11138"/>
                  </a:cubicBezTo>
                  <a:cubicBezTo>
                    <a:pt x="5400" y="11138"/>
                    <a:pt x="10800" y="12038"/>
                    <a:pt x="10800" y="1293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200480" y="5248440"/>
            <a:ext cx="3486240" cy="952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714240" y="5210280"/>
            <a:ext cx="34862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723960" y="4403880"/>
            <a:ext cx="3619440" cy="1465200"/>
            <a:chOff x="723960" y="4403880"/>
            <a:chExt cx="3619440" cy="1465200"/>
          </a:xfrm>
        </p:grpSpPr>
        <p:sp>
          <p:nvSpPr>
            <p:cNvPr id="229" name=""/>
            <p:cNvSpPr/>
            <p:nvPr/>
          </p:nvSpPr>
          <p:spPr>
            <a:xfrm>
              <a:off x="723960" y="4403880"/>
              <a:ext cx="361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2×2×</a:t>
              </a:r>
              <a:r>
                <a:rPr b="1" lang="en-US" sz="3200" spc="-1" strike="noStrike" baseline="30000">
                  <a:solidFill>
                    <a:srgbClr val="0000ff"/>
                  </a:solidFill>
                  <a:latin typeface="Times New Roman"/>
                </a:rPr>
                <a:t>…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 ×2×2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2221200" y="3517560"/>
              <a:ext cx="304560" cy="299088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77760 h 2990880"/>
                <a:gd name="textAreaBottom" fmla="*/ 2913120 h 299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60480" y="5165640"/>
              <a:ext cx="1589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个</a:t>
              </a:r>
              <a:r>
                <a:rPr b="1" lang="en-US" sz="4000" spc="-1" strike="noStrike">
                  <a:solidFill>
                    <a:srgbClr val="871d78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48080" y="51444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记作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en-US" sz="3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，读作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的平方（或二次方）．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4040" y="57960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×6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19160" y="1494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×6×6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236052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a·a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18800" y="339876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a·a·a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68560" y="4405320"/>
            <a:ext cx="527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记作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000" spc="-1" strike="noStrike" baseline="30000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，读作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的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次方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62320" y="3456000"/>
            <a:ext cx="647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记作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3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，读作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的立方（或三次方）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459160"/>
            <a:ext cx="678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记作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3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，读作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的平方（或二次方）．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95600" y="1522440"/>
            <a:ext cx="654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记作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en-US" sz="3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，读作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的立方（或三次方）．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4105440" y="5432400"/>
            <a:ext cx="2952720" cy="617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512720" y="2008080"/>
            <a:ext cx="6797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一般地，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个相同因数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相乘，即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记作：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读作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次方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547640" y="3025800"/>
            <a:ext cx="4876920" cy="1618920"/>
            <a:chOff x="1547640" y="3025800"/>
            <a:chExt cx="4876920" cy="1618920"/>
          </a:xfrm>
        </p:grpSpPr>
        <p:sp>
          <p:nvSpPr>
            <p:cNvPr id="244" name=""/>
            <p:cNvSpPr/>
            <p:nvPr/>
          </p:nvSpPr>
          <p:spPr>
            <a:xfrm>
              <a:off x="1547640" y="3025800"/>
              <a:ext cx="4876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×</a:t>
              </a:r>
              <a:r>
                <a:rPr b="1" lang="en-US" sz="4400" spc="-1" strike="noStrike" baseline="30000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×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6200000">
              <a:off x="3601440" y="1795680"/>
              <a:ext cx="175680" cy="4114800"/>
            </a:xfrm>
            <a:custGeom>
              <a:avLst/>
              <a:gdLst>
                <a:gd name="textAreaLeft" fmla="*/ 112320 w 175680"/>
                <a:gd name="textAreaRight" fmla="*/ 176040 w 175680"/>
                <a:gd name="textAreaTop" fmla="*/ 107280 h 4114800"/>
                <a:gd name="textAreaBottom" fmla="*/ 4007520 h 41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00120" y="394128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719440" y="700200"/>
            <a:ext cx="3838680" cy="782640"/>
            <a:chOff x="2719440" y="700200"/>
            <a:chExt cx="3838680" cy="782640"/>
          </a:xfrm>
        </p:grpSpPr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5558040" y="70020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19440" y="812880"/>
              <a:ext cx="2662200" cy="66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0000ff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153753" dir="2700000" blurRad="0" rotWithShape="0">
                <a:srgbClr val="33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push dir="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20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2865600" y="946080"/>
            <a:ext cx="3837960" cy="782640"/>
            <a:chOff x="2865600" y="946080"/>
            <a:chExt cx="3837960" cy="782640"/>
          </a:xfrm>
        </p:grpSpPr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5703840" y="946080"/>
              <a:ext cx="99972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2865600" y="1058760"/>
              <a:ext cx="2661840" cy="66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0000ff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153753" dir="2700000" blurRad="0" rotWithShape="0">
                <a:srgbClr val="33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62120" y="2482920"/>
            <a:ext cx="79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相同因数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积的运算叫做乘方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43880" y="402588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即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992240" y="3795840"/>
            <a:ext cx="5870520" cy="1618920"/>
            <a:chOff x="1992240" y="3795840"/>
            <a:chExt cx="5870520" cy="1618920"/>
          </a:xfrm>
        </p:grpSpPr>
        <p:sp>
          <p:nvSpPr>
            <p:cNvPr id="256" name=""/>
            <p:cNvSpPr/>
            <p:nvPr/>
          </p:nvSpPr>
          <p:spPr>
            <a:xfrm>
              <a:off x="1992240" y="383976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48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2985840" y="3795840"/>
              <a:ext cx="4876920" cy="1618920"/>
              <a:chOff x="2985840" y="3795840"/>
              <a:chExt cx="4876920" cy="1618920"/>
            </a:xfrm>
          </p:grpSpPr>
          <p:sp>
            <p:nvSpPr>
              <p:cNvPr id="258" name=""/>
              <p:cNvSpPr/>
              <p:nvPr/>
            </p:nvSpPr>
            <p:spPr>
              <a:xfrm>
                <a:off x="2985840" y="3795840"/>
                <a:ext cx="48769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 ×</a:t>
                </a:r>
                <a:r>
                  <a:rPr b="1" lang="en-US" sz="4400" spc="-1" strike="noStrike" baseline="30000">
                    <a:solidFill>
                      <a:srgbClr val="000000"/>
                    </a:solidFill>
                    <a:latin typeface="Times New Roman"/>
                  </a:rPr>
                  <a:t>… 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 ×</a:t>
                </a:r>
                <a:r>
                  <a:rPr b="1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4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6200000">
                <a:off x="5039640" y="2565720"/>
                <a:ext cx="175680" cy="4114800"/>
              </a:xfrm>
              <a:custGeom>
                <a:avLst/>
                <a:gdLst>
                  <a:gd name="textAreaLeft" fmla="*/ 112320 w 175680"/>
                  <a:gd name="textAreaRight" fmla="*/ 176040 w 175680"/>
                  <a:gd name="textAreaTop" fmla="*/ 107280 h 4114800"/>
                  <a:gd name="textAreaBottom" fmla="*/ 4007520 h 411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38320" y="4711320"/>
                <a:ext cx="137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个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2801880" y="858960"/>
            <a:ext cx="3838680" cy="782640"/>
            <a:chOff x="2801880" y="858960"/>
            <a:chExt cx="3838680" cy="782640"/>
          </a:xfrm>
        </p:grpSpPr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5640480" y="85896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2801880" y="971640"/>
              <a:ext cx="2662200" cy="66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0000ff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153753" dir="2700000" blurRad="0" rotWithShape="0">
                <a:srgbClr val="33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334040" y="2333520"/>
            <a:ext cx="12952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9600" spc="-1" strike="noStrike" baseline="30000">
                <a:solidFill>
                  <a:srgbClr val="0000ff"/>
                </a:solidFill>
                <a:latin typeface="Times New Roman"/>
              </a:rPr>
              <a:t>n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14480" y="2781360"/>
            <a:ext cx="2552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任意有理数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48240" y="2333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指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29280" y="315756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81240" y="3376440"/>
            <a:ext cx="1338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433840" y="2776680"/>
            <a:ext cx="990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652720" y="3540240"/>
            <a:ext cx="121932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38320" y="4437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也读作</a:t>
            </a:r>
            <a:r>
              <a:rPr b="1" i="1" lang="en-US" sz="36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次幂 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205000" y="2554200"/>
            <a:ext cx="10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记作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100160" y="1000080"/>
            <a:ext cx="1003320" cy="5018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638280" y="2649600"/>
            <a:ext cx="1550880" cy="5014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480960" y="4041720"/>
            <a:ext cx="2144880" cy="50184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293760" y="5095800"/>
            <a:ext cx="2808360" cy="1373400"/>
            <a:chOff x="293760" y="5095800"/>
            <a:chExt cx="2808360" cy="1373400"/>
          </a:xfrm>
        </p:grpSpPr>
        <p:pic>
          <p:nvPicPr>
            <p:cNvPr id="277" name="" descr=""/>
            <p:cNvPicPr/>
            <p:nvPr/>
          </p:nvPicPr>
          <p:blipFill>
            <a:blip r:embed="rId5"/>
            <a:stretch/>
          </p:blipFill>
          <p:spPr>
            <a:xfrm>
              <a:off x="293760" y="5095800"/>
              <a:ext cx="280836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 rot="16200000">
              <a:off x="1519200" y="4591080"/>
              <a:ext cx="432000" cy="2304720"/>
            </a:xfrm>
            <a:custGeom>
              <a:avLst/>
              <a:gdLst>
                <a:gd name="textAreaLeft" fmla="*/ 276120 w 432000"/>
                <a:gd name="textAreaRight" fmla="*/ 432360 w 432000"/>
                <a:gd name="textAreaTop" fmla="*/ 54720 h 2304720"/>
                <a:gd name="textAreaBottom" fmla="*/ 2250000 h 23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24"/>
                    <a:pt x="10800" y="1648"/>
                  </a:cubicBezTo>
                  <a:lnTo>
                    <a:pt x="10800" y="8701"/>
                  </a:lnTo>
                  <a:cubicBezTo>
                    <a:pt x="10800" y="9525"/>
                    <a:pt x="5400" y="10349"/>
                    <a:pt x="0" y="10349"/>
                  </a:cubicBezTo>
                  <a:cubicBezTo>
                    <a:pt x="5400" y="10349"/>
                    <a:pt x="10800" y="11173"/>
                    <a:pt x="10800" y="11997"/>
                  </a:cubicBezTo>
                  <a:lnTo>
                    <a:pt x="10800" y="19952"/>
                  </a:lnTo>
                  <a:cubicBezTo>
                    <a:pt x="10800" y="20776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74840" y="588780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496960" y="393876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记作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3225960" y="2370240"/>
            <a:ext cx="558720" cy="6620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749840" y="676440"/>
            <a:ext cx="288720" cy="12348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2040 h 1234800"/>
              <a:gd name="textAreaBottom" fmla="*/ 1202760 h 123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963"/>
                </a:lnTo>
                <a:cubicBezTo>
                  <a:pt x="10800" y="8863"/>
                  <a:pt x="5400" y="9763"/>
                  <a:pt x="0" y="9763"/>
                </a:cubicBezTo>
                <a:cubicBezTo>
                  <a:pt x="5400" y="9763"/>
                  <a:pt x="10800" y="10663"/>
                  <a:pt x="10800" y="1156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784760" y="2279520"/>
            <a:ext cx="298440" cy="1150920"/>
          </a:xfrm>
          <a:custGeom>
            <a:avLst/>
            <a:gdLst>
              <a:gd name="textAreaLeft" fmla="*/ 190800 w 298440"/>
              <a:gd name="textAreaRight" fmla="*/ 298800 w 2984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49"/>
                </a:lnTo>
                <a:cubicBezTo>
                  <a:pt x="10800" y="9449"/>
                  <a:pt x="5400" y="10349"/>
                  <a:pt x="0" y="10349"/>
                </a:cubicBezTo>
                <a:cubicBezTo>
                  <a:pt x="5400" y="10349"/>
                  <a:pt x="10800" y="11249"/>
                  <a:pt x="10800" y="1214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19640" y="3824280"/>
            <a:ext cx="289080" cy="865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49"/>
                </a:lnTo>
                <a:cubicBezTo>
                  <a:pt x="10800" y="9449"/>
                  <a:pt x="5400" y="10349"/>
                  <a:pt x="0" y="10349"/>
                </a:cubicBezTo>
                <a:cubicBezTo>
                  <a:pt x="5400" y="10349"/>
                  <a:pt x="10800" y="11249"/>
                  <a:pt x="10800" y="1214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478480" y="5133960"/>
            <a:ext cx="360360" cy="863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49"/>
                </a:lnTo>
                <a:cubicBezTo>
                  <a:pt x="10800" y="9449"/>
                  <a:pt x="5400" y="10349"/>
                  <a:pt x="0" y="10349"/>
                </a:cubicBezTo>
                <a:cubicBezTo>
                  <a:pt x="5400" y="10349"/>
                  <a:pt x="10800" y="11249"/>
                  <a:pt x="10800" y="1214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08160" y="895320"/>
            <a:ext cx="12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记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102120" y="523728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记作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16600" y="38592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平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005440" y="146376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次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959360" y="88092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二次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40440" y="198756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立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86440" y="299412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次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83200" y="248292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三次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68760" y="426708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次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23040" y="348444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四次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08600" y="557532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次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791320" y="482112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次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00960" y="936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读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12160" y="3919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读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72600" y="2522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读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720320" y="5232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读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7"/>
          <a:stretch/>
        </p:blipFill>
        <p:spPr>
          <a:xfrm>
            <a:off x="4118040" y="516420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8"/>
          <a:stretch/>
        </p:blipFill>
        <p:spPr>
          <a:xfrm>
            <a:off x="3581280" y="3786120"/>
            <a:ext cx="576360" cy="682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9"/>
          <a:stretch/>
        </p:blipFill>
        <p:spPr>
          <a:xfrm>
            <a:off x="3116160" y="785880"/>
            <a:ext cx="533520" cy="6318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404640" y="1508040"/>
            <a:ext cx="8228160" cy="3646440"/>
            <a:chOff x="404640" y="1508040"/>
            <a:chExt cx="8228160" cy="3646440"/>
          </a:xfrm>
        </p:grpSpPr>
        <p:sp>
          <p:nvSpPr>
            <p:cNvPr id="307" name=""/>
            <p:cNvSpPr/>
            <p:nvPr/>
          </p:nvSpPr>
          <p:spPr>
            <a:xfrm>
              <a:off x="404640" y="1508040"/>
              <a:ext cx="8228160" cy="36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　　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3200" spc="-1" strike="noStrike" baseline="50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读做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_______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其中底数是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指数是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表示为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________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结果为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_____.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　　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           读做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_________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其中底数是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__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指数是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__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表示为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______________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结果为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______.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308" name="" descr=""/>
            <p:cNvPicPr/>
            <p:nvPr/>
          </p:nvPicPr>
          <p:blipFill>
            <a:blip r:embed="rId2"/>
            <a:stretch/>
          </p:blipFill>
          <p:spPr>
            <a:xfrm>
              <a:off x="2265120" y="3498840"/>
              <a:ext cx="1065240" cy="9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19440" y="3510000"/>
            <a:ext cx="1625760" cy="6922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1711440" y="4384800"/>
            <a:ext cx="350640" cy="5792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885840" y="1614600"/>
            <a:ext cx="16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次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56560" y="2297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72920" y="229716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×3×3×3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57400" y="291924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8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1312920" y="5045040"/>
            <a:ext cx="20574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5799240" y="4951440"/>
            <a:ext cx="565200" cy="703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798280" y="2311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33520" y="438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076400" y="546120"/>
            <a:ext cx="2620800" cy="852480"/>
            <a:chOff x="1076400" y="546120"/>
            <a:chExt cx="2620800" cy="852480"/>
          </a:xfrm>
        </p:grpSpPr>
        <p:sp>
          <p:nvSpPr>
            <p:cNvPr id="320" name=""/>
            <p:cNvSpPr/>
            <p:nvPr/>
          </p:nvSpPr>
          <p:spPr>
            <a:xfrm>
              <a:off x="1544760" y="60480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7"/>
            <a:stretch/>
          </p:blipFill>
          <p:spPr>
            <a:xfrm>
              <a:off x="1076400" y="54612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2" name="" descr=""/>
          <p:cNvPicPr/>
          <p:nvPr/>
        </p:nvPicPr>
        <p:blipFill>
          <a:blip r:embed="rId8"/>
          <a:stretch/>
        </p:blipFill>
        <p:spPr>
          <a:xfrm>
            <a:off x="4684680" y="5936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77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7" dur="770" fill="hold"/>
                                        <p:tgtEl>
                                          <p:spTgt spid="3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9" dur="77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1" dur="77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47560" y="3736800"/>
            <a:ext cx="79250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相传，古印度的舍罕王打算重赏国际象棋的发明者——宰相西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达依尔．于是，这位宰相跪在国王面前说：“陛下，请您在这张棋盘的第一个小格内，赏给我一粒麦子；在第二个小格内给两粒，第三格内给四粒，照这样下去，每一小格都比前一小格加一倍．陛下啊，把这样摆满棋盘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09720" y="1878120"/>
            <a:ext cx="58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黑体"/>
                <a:ea typeface="黑体"/>
              </a:rPr>
              <a:t>国际象棋与麦粒的故事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139560" y="-15840"/>
            <a:ext cx="2849400" cy="1707840"/>
            <a:chOff x="3139560" y="-15840"/>
            <a:chExt cx="2849400" cy="1707840"/>
          </a:xfrm>
        </p:grpSpPr>
        <p:sp>
          <p:nvSpPr>
            <p:cNvPr id="85" name="filecab3"/>
            <p:cNvSpPr/>
            <p:nvPr/>
          </p:nvSpPr>
          <p:spPr>
            <a:xfrm rot="10800000">
              <a:off x="3139560" y="854280"/>
              <a:ext cx="2849400" cy="83736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新课导入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3757320" y="-15840"/>
              <a:ext cx="1619280" cy="121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015320" y="1201680"/>
            <a:ext cx="1957320" cy="1486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143000" y="4648320"/>
            <a:ext cx="6095880" cy="1447560"/>
          </a:xfrm>
          <a:prstGeom prst="wedgeEllipseCallout">
            <a:avLst>
              <a:gd name="adj1" fmla="val -1277"/>
              <a:gd name="adj2" fmla="val -122148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一个数可以看作这个数本身的一次方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43000" y="190512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的底数，指数各是多少？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28954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的底数是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指数是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556000" y="460440"/>
            <a:ext cx="3519360" cy="1185840"/>
            <a:chOff x="2556000" y="460440"/>
            <a:chExt cx="3519360" cy="1185840"/>
          </a:xfrm>
        </p:grpSpPr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5123160" y="460440"/>
              <a:ext cx="9522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Cloud"/>
            <p:cNvSpPr/>
            <p:nvPr/>
          </p:nvSpPr>
          <p:spPr>
            <a:xfrm>
              <a:off x="2556000" y="460440"/>
              <a:ext cx="2567160" cy="11858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3076560" y="612720"/>
              <a:ext cx="15242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想一想</a:t>
              </a:r>
              <a:endPara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</p:spTree>
  </p:cSld>
  <p:transition>
    <p:blinds dir="vert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455840" y="2624040"/>
            <a:ext cx="5954760" cy="23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7</a:t>
            </a:r>
            <a:r>
              <a:rPr b="1" lang="en-US" sz="3600" spc="-1" strike="noStrike" baseline="50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有意义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3600" spc="-1" strike="noStrike" baseline="50000">
                <a:solidFill>
                  <a:srgbClr val="0033cc"/>
                </a:solidFill>
                <a:latin typeface="Times New Roman"/>
              </a:rPr>
              <a:t>2000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与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3600" spc="-1" strike="noStrike" baseline="50000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有什么异同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imes New Roman"/>
              </a:rPr>
              <a:t>2000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有意义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878200" y="920880"/>
            <a:ext cx="3519360" cy="1185840"/>
            <a:chOff x="2878200" y="920880"/>
            <a:chExt cx="3519360" cy="1185840"/>
          </a:xfrm>
        </p:grpSpPr>
        <p:pic>
          <p:nvPicPr>
            <p:cNvPr id="332" name="" descr=""/>
            <p:cNvPicPr/>
            <p:nvPr/>
          </p:nvPicPr>
          <p:blipFill>
            <a:blip r:embed="rId2"/>
            <a:stretch/>
          </p:blipFill>
          <p:spPr>
            <a:xfrm>
              <a:off x="5445360" y="920880"/>
              <a:ext cx="9522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Cloud"/>
            <p:cNvSpPr/>
            <p:nvPr/>
          </p:nvSpPr>
          <p:spPr>
            <a:xfrm>
              <a:off x="2878200" y="920880"/>
              <a:ext cx="2567160" cy="11858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3398760" y="1073160"/>
              <a:ext cx="15242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想一想</a:t>
              </a:r>
              <a:endPara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</p:spTree>
  </p:cSld>
  <p:transition>
    <p:split dir="out" orient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693520" y="2455920"/>
            <a:ext cx="356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任何次幂等于零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任何次幂等于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289320" y="946080"/>
            <a:ext cx="2770200" cy="947880"/>
            <a:chOff x="3289320" y="946080"/>
            <a:chExt cx="2770200" cy="947880"/>
          </a:xfrm>
        </p:grpSpPr>
        <p:sp>
          <p:nvSpPr>
            <p:cNvPr id="337" name=""/>
            <p:cNvSpPr txBox="1"/>
            <p:nvPr/>
          </p:nvSpPr>
          <p:spPr>
            <a:xfrm>
              <a:off x="3289320" y="117000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338" name="" descr=""/>
            <p:cNvPicPr/>
            <p:nvPr/>
          </p:nvPicPr>
          <p:blipFill>
            <a:blip r:embed="rId2"/>
            <a:stretch/>
          </p:blipFill>
          <p:spPr>
            <a:xfrm>
              <a:off x="5153040" y="946080"/>
              <a:ext cx="906480" cy="947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6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89120" y="974520"/>
            <a:ext cx="8299440" cy="2586600"/>
            <a:chOff x="789120" y="974520"/>
            <a:chExt cx="8299440" cy="2586600"/>
          </a:xfrm>
        </p:grpSpPr>
        <p:sp>
          <p:nvSpPr>
            <p:cNvPr id="341" name=""/>
            <p:cNvSpPr/>
            <p:nvPr/>
          </p:nvSpPr>
          <p:spPr>
            <a:xfrm>
              <a:off x="789120" y="974520"/>
              <a:ext cx="8299440" cy="258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（－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r>
                <a:rPr b="1" lang="en-US" sz="3200" spc="-1" strike="noStrike" baseline="50000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；           （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（－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r>
                <a:rPr b="1" lang="en-US" sz="3200" spc="-1" strike="noStrike" baseline="50000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；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        ；                   （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（－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r>
                <a:rPr b="1" lang="en-US" sz="3200" spc="-1" strike="noStrike" baseline="50000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；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en-US" sz="3200" spc="-1" strike="noStrike" baseline="50000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；                       （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3200" spc="-1" strike="noStrike" baseline="50000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.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1884600" y="1903680"/>
              <a:ext cx="865080" cy="89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" name=""/>
          <p:cNvSpPr/>
          <p:nvPr/>
        </p:nvSpPr>
        <p:spPr>
          <a:xfrm>
            <a:off x="1055520" y="3483000"/>
            <a:ext cx="782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观察各题的结果，你能发现什么规律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258920" y="4227480"/>
            <a:ext cx="6761160" cy="132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　　正数的任何次幂是正数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　　负数的奇次幂是负数，负数的偶次幂是正数</a:t>
            </a:r>
            <a:r>
              <a:rPr b="0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26920" y="496800"/>
            <a:ext cx="32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计算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807000" y="1362240"/>
            <a:ext cx="11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25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100720" y="121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950200" y="28465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4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829640" y="206388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43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012440" y="28465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8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3139920" y="1903320"/>
            <a:ext cx="266760" cy="863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4424400" y="1152360"/>
            <a:ext cx="1758960" cy="11098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762120" y="1549440"/>
            <a:ext cx="340524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 baseline="4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 baseline="4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066680" y="57312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观察下面两个式子有什么不同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00280" y="2455920"/>
            <a:ext cx="489240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3200" spc="-1" strike="noStrike" baseline="4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表示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平方，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 baseline="4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表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平方的相反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1214280" y="3746520"/>
            <a:ext cx="2953080" cy="21621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618080" y="4216320"/>
            <a:ext cx="4091040" cy="1731960"/>
          </a:xfrm>
          <a:prstGeom prst="wedgeRoundRectCallout">
            <a:avLst>
              <a:gd name="adj1" fmla="val 22023"/>
              <a:gd name="adj2" fmla="val -159625"/>
              <a:gd name="adj3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　　当底数是负数或分数时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底数一定要加上括号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7164360" y="903240"/>
            <a:ext cx="942840" cy="1257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950760" y="1846440"/>
            <a:ext cx="66214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（－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3200" spc="-1" strike="noStrike" baseline="50000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___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（－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3200" spc="-1" strike="noStrike" baseline="50000">
                <a:solidFill>
                  <a:srgbClr val="0033cc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___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3200" spc="-1" strike="noStrike" baseline="50000">
                <a:solidFill>
                  <a:srgbClr val="0033cc"/>
                </a:solidFill>
                <a:latin typeface="Times New Roman"/>
              </a:rPr>
              <a:t>200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＝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______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3200" spc="-1" strike="noStrike" baseline="50000">
                <a:solidFill>
                  <a:srgbClr val="0033cc"/>
                </a:solidFill>
                <a:latin typeface="Times New Roman"/>
              </a:rPr>
              <a:t>2005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__________,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（－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3200" spc="-1" strike="noStrike" baseline="50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___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（－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3200" spc="-1" strike="noStrike" baseline="50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_______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219320" y="1006560"/>
            <a:ext cx="48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口算下列各题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66960" y="184644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32000" y="2487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46120" y="3124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39800" y="3875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337640" y="445464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0 000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65880" y="5062680"/>
            <a:ext cx="11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25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3132000" y="630360"/>
            <a:ext cx="2770200" cy="947520"/>
            <a:chOff x="3132000" y="630360"/>
            <a:chExt cx="2770200" cy="947520"/>
          </a:xfrm>
        </p:grpSpPr>
        <p:sp>
          <p:nvSpPr>
            <p:cNvPr id="369" name=""/>
            <p:cNvSpPr txBox="1"/>
            <p:nvPr/>
          </p:nvSpPr>
          <p:spPr>
            <a:xfrm>
              <a:off x="3132000" y="853920"/>
              <a:ext cx="1441440" cy="60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370" name="" descr=""/>
            <p:cNvPicPr/>
            <p:nvPr/>
          </p:nvPicPr>
          <p:blipFill>
            <a:blip r:embed="rId2"/>
            <a:stretch/>
          </p:blipFill>
          <p:spPr>
            <a:xfrm>
              <a:off x="4995720" y="630360"/>
              <a:ext cx="906480" cy="9475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71" name=""/>
          <p:cNvGraphicFramePr/>
          <p:nvPr/>
        </p:nvGraphicFramePr>
        <p:xfrm>
          <a:off x="2023920" y="2119320"/>
          <a:ext cx="4591080" cy="3909960"/>
        </p:xfrm>
        <a:graphic>
          <a:graphicData uri="http://schemas.openxmlformats.org/drawingml/2006/table">
            <a:tbl>
              <a:tblPr/>
              <a:tblGrid>
                <a:gridCol w="2295360"/>
                <a:gridCol w="2295720"/>
              </a:tblGrid>
              <a:tr h="74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运算名称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运算结果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加法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和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减法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差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乘法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积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除法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商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乘方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幂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219320" y="6094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例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：计算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1414440" y="1251000"/>
            <a:ext cx="1838520" cy="18190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1415880" y="4081320"/>
            <a:ext cx="7151760" cy="13399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415880" y="3440160"/>
            <a:ext cx="15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解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803160" y="1235160"/>
            <a:ext cx="6459480" cy="11016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762120" y="2311560"/>
            <a:ext cx="6103800" cy="38131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6953760" y="2708280"/>
            <a:ext cx="11577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en-US" sz="3200" spc="-1" strike="noStrike" baseline="50000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&gt;5</a:t>
            </a:r>
            <a:r>
              <a:rPr b="1" lang="en-US" sz="3200" spc="-1" strike="noStrike" baseline="50000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437080" y="2706840"/>
            <a:ext cx="1071720" cy="579240"/>
          </a:xfrm>
          <a:custGeom>
            <a:avLst/>
            <a:gdLst>
              <a:gd name="textAreaLeft" fmla="*/ 133920 w 1071720"/>
              <a:gd name="textAreaRight" fmla="*/ 937800 w 1071720"/>
              <a:gd name="textAreaTop" fmla="*/ 144720 h 579240"/>
              <a:gd name="textAreaBottom" fmla="*/ 434520 h 57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>
            <a:off x="6156360" y="5172120"/>
            <a:ext cx="1776240" cy="9046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4902120" y="5354640"/>
            <a:ext cx="1071720" cy="579600"/>
          </a:xfrm>
          <a:custGeom>
            <a:avLst/>
            <a:gdLst>
              <a:gd name="textAreaLeft" fmla="*/ 133920 w 1071720"/>
              <a:gd name="textAreaRight" fmla="*/ 937800 w 1071720"/>
              <a:gd name="textAreaTop" fmla="*/ 144720 h 579600"/>
              <a:gd name="textAreaBottom" fmla="*/ 434880 h 579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708280" y="236520"/>
            <a:ext cx="3519360" cy="1185840"/>
            <a:chOff x="2708280" y="236520"/>
            <a:chExt cx="3519360" cy="1185840"/>
          </a:xfrm>
        </p:grpSpPr>
        <p:pic>
          <p:nvPicPr>
            <p:cNvPr id="383" name="" descr=""/>
            <p:cNvPicPr/>
            <p:nvPr/>
          </p:nvPicPr>
          <p:blipFill>
            <a:blip r:embed="rId5"/>
            <a:stretch/>
          </p:blipFill>
          <p:spPr>
            <a:xfrm>
              <a:off x="5275440" y="236520"/>
              <a:ext cx="9522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Cloud"/>
            <p:cNvSpPr/>
            <p:nvPr/>
          </p:nvSpPr>
          <p:spPr>
            <a:xfrm>
              <a:off x="2708280" y="236520"/>
              <a:ext cx="2567160" cy="11858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3228840" y="388800"/>
              <a:ext cx="15242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想一想</a:t>
              </a:r>
              <a:endPara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</p:spTree>
  </p:cSld>
  <p:transition>
    <p:wipe dir="l"/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85800" y="2378160"/>
            <a:ext cx="8043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一个大于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正数作底数，指数越大，乘方的结果越大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而一个小于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正数作底数，指数越大，乘方的结果就越小 ．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522600" y="995400"/>
            <a:ext cx="2770200" cy="947880"/>
            <a:chOff x="3522600" y="995400"/>
            <a:chExt cx="2770200" cy="947880"/>
          </a:xfrm>
        </p:grpSpPr>
        <p:sp>
          <p:nvSpPr>
            <p:cNvPr id="388" name=""/>
            <p:cNvSpPr txBox="1"/>
            <p:nvPr/>
          </p:nvSpPr>
          <p:spPr>
            <a:xfrm>
              <a:off x="3522600" y="121932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>
              <a:off x="5386320" y="995400"/>
              <a:ext cx="906480" cy="947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55800" y="932040"/>
            <a:ext cx="794196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上所有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6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格的麦粒，都赏给您的仆人罢！”国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慷慨地答应了宰相的要求，他下令将一袋麦子拿到宝座前．计数麦粒的工作开始了．第一格内放一粒，第二格两粒，第三格四粒……还没到第二十格，袋子已经空了．一袋又一袋的麦子被扛到国王面前来，但是，麦粒数一格接一格地增长得那么迅速，很快就可以看出，即使拿来全印度的小麦，国王也无法兑现他对宰相许下的诺言！这位聪明的宰相到底要求的是多少麦粒呢？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883640" y="0"/>
            <a:ext cx="11811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1066680" y="660240"/>
            <a:ext cx="6734160" cy="642600"/>
            <a:chOff x="1066680" y="660240"/>
            <a:chExt cx="6734160" cy="642600"/>
          </a:xfrm>
        </p:grpSpPr>
        <p:sp>
          <p:nvSpPr>
            <p:cNvPr id="391" name=""/>
            <p:cNvSpPr/>
            <p:nvPr/>
          </p:nvSpPr>
          <p:spPr>
            <a:xfrm>
              <a:off x="1066680" y="660240"/>
              <a:ext cx="586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例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：用计算器计算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2"/>
            <a:stretch/>
          </p:blipFill>
          <p:spPr>
            <a:xfrm>
              <a:off x="5163840" y="660240"/>
              <a:ext cx="263700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3" name=""/>
          <p:cNvGrpSpPr/>
          <p:nvPr/>
        </p:nvGrpSpPr>
        <p:grpSpPr>
          <a:xfrm>
            <a:off x="1079640" y="1360440"/>
            <a:ext cx="6797520" cy="581400"/>
            <a:chOff x="1079640" y="1360440"/>
            <a:chExt cx="6797520" cy="581400"/>
          </a:xfrm>
        </p:grpSpPr>
        <p:sp>
          <p:nvSpPr>
            <p:cNvPr id="394" name=""/>
            <p:cNvSpPr/>
            <p:nvPr/>
          </p:nvSpPr>
          <p:spPr>
            <a:xfrm>
              <a:off x="1079640" y="1360440"/>
              <a:ext cx="679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解：用带符号键             的计算器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27760" y="1422360"/>
              <a:ext cx="1143000" cy="457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（－）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035760" y="1801800"/>
            <a:ext cx="3029040" cy="4648320"/>
            <a:chOff x="6035760" y="1801800"/>
            <a:chExt cx="3029040" cy="4648320"/>
          </a:xfrm>
        </p:grpSpPr>
        <p:pic>
          <p:nvPicPr>
            <p:cNvPr id="397" name="" descr=""/>
            <p:cNvPicPr/>
            <p:nvPr/>
          </p:nvPicPr>
          <p:blipFill>
            <a:blip r:embed="rId3"/>
            <a:stretch/>
          </p:blipFill>
          <p:spPr>
            <a:xfrm>
              <a:off x="6035760" y="1801800"/>
              <a:ext cx="302904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6774120" y="4608360"/>
              <a:ext cx="380880" cy="2286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1023840" y="2190600"/>
            <a:ext cx="5038920" cy="581400"/>
            <a:chOff x="1023840" y="2190600"/>
            <a:chExt cx="5038920" cy="581400"/>
          </a:xfrm>
        </p:grpSpPr>
        <p:sp>
          <p:nvSpPr>
            <p:cNvPr id="400" name=""/>
            <p:cNvSpPr/>
            <p:nvPr/>
          </p:nvSpPr>
          <p:spPr>
            <a:xfrm>
              <a:off x="1595520" y="2249280"/>
              <a:ext cx="898200" cy="4111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（－）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23840" y="2249280"/>
              <a:ext cx="411120" cy="4111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604960" y="2190600"/>
              <a:ext cx="38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55680" y="2236680"/>
              <a:ext cx="411480" cy="4111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∧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08440" y="2249280"/>
              <a:ext cx="411120" cy="4111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＝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452480" y="2190600"/>
              <a:ext cx="161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531 441.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988920" y="3784680"/>
            <a:ext cx="5018040" cy="685800"/>
            <a:chOff x="988920" y="3784680"/>
            <a:chExt cx="5018040" cy="685800"/>
          </a:xfrm>
        </p:grpSpPr>
        <p:sp>
          <p:nvSpPr>
            <p:cNvPr id="407" name=""/>
            <p:cNvSpPr/>
            <p:nvPr/>
          </p:nvSpPr>
          <p:spPr>
            <a:xfrm>
              <a:off x="1560600" y="3889080"/>
              <a:ext cx="898200" cy="4107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（－）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88920" y="3889080"/>
              <a:ext cx="411120" cy="4107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38360" y="3784680"/>
              <a:ext cx="38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020760" y="3893760"/>
              <a:ext cx="411480" cy="4107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∧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30600" y="3904920"/>
              <a:ext cx="411120" cy="4107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＝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20920" y="3889080"/>
              <a:ext cx="188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－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16807.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343520" y="2986200"/>
            <a:ext cx="25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显示：（－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∧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375200" y="4697280"/>
            <a:ext cx="25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显示：（－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∧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4"/>
          <a:stretch/>
        </p:blipFill>
        <p:spPr>
          <a:xfrm>
            <a:off x="1087560" y="5276880"/>
            <a:ext cx="2813040" cy="1060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4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9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386000" y="1479600"/>
            <a:ext cx="46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用计算器计算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1417680" y="2338560"/>
            <a:ext cx="1557360" cy="3493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718080" y="2395440"/>
            <a:ext cx="219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62 144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00080" y="3546360"/>
            <a:ext cx="16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79 936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700800" y="4467240"/>
            <a:ext cx="140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0 736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27360" y="535320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9 924.36543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033560" y="514440"/>
            <a:ext cx="2620800" cy="852480"/>
            <a:chOff x="1033560" y="514440"/>
            <a:chExt cx="2620800" cy="852480"/>
          </a:xfrm>
        </p:grpSpPr>
        <p:sp>
          <p:nvSpPr>
            <p:cNvPr id="423" name=""/>
            <p:cNvSpPr/>
            <p:nvPr/>
          </p:nvSpPr>
          <p:spPr>
            <a:xfrm>
              <a:off x="1501920" y="57312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424" name="" descr=""/>
            <p:cNvPicPr/>
            <p:nvPr/>
          </p:nvPicPr>
          <p:blipFill>
            <a:blip r:embed="rId3"/>
            <a:stretch/>
          </p:blipFill>
          <p:spPr>
            <a:xfrm>
              <a:off x="1033560" y="51444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u"/>
  </p:transition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5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0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5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711360" y="1060560"/>
            <a:ext cx="7734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　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5</a:t>
            </a:r>
            <a:r>
              <a:rPr b="1" lang="en-US" sz="3200" spc="-1" strike="noStrike" baseline="50000">
                <a:solidFill>
                  <a:srgbClr val="0033cc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（－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）这个式子中，存在哪几种计算？这道题按什么顺序计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9280" y="2612880"/>
            <a:ext cx="80438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和乘方的运算．根据前面学过的有理数的加减乘除混合运算法则，我们应该“先乘除，后加减”来计算这个式子．那么乘方的运算顺序我们又是怎么规定的呢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942840" y="2136600"/>
            <a:ext cx="7239240" cy="30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有理数的混合运算应注意的运算顺序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先乘方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再乘除，最后加减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同级运算，从左到右进行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如有括号，先做括号内的运算，按小括号、中括号、大括号依次进行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530440" y="885960"/>
            <a:ext cx="3838680" cy="782640"/>
            <a:chOff x="2530440" y="885960"/>
            <a:chExt cx="3838680" cy="782640"/>
          </a:xfrm>
        </p:grpSpPr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5369040" y="88596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530440" y="998640"/>
              <a:ext cx="2662200" cy="66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0033cc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153753" dir="2700000" blurRad="0" rotWithShape="0">
                <a:srgbClr val="33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0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147680" y="844560"/>
            <a:ext cx="38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计算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1147680" y="1633680"/>
            <a:ext cx="7005600" cy="7077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1249200" y="2766960"/>
            <a:ext cx="7005960" cy="24163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8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8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324080" y="866880"/>
            <a:ext cx="29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算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1387440" y="1881360"/>
            <a:ext cx="7292880" cy="23158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0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1714680" y="798480"/>
            <a:ext cx="5086080" cy="50482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7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1481040" y="415800"/>
            <a:ext cx="6004080" cy="60040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927000" y="563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观察下面三行数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28800" y="1332000"/>
            <a:ext cx="79502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7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8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4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729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…；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2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8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4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73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…；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②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7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5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8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487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557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…；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20840" y="3133800"/>
            <a:ext cx="815184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第①行数按什么规律排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第② ③行数与第①行数分别有什么关系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取每行数的第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个数，计算这三个数的和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3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9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4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9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4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754200" y="495360"/>
            <a:ext cx="821196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解：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第①行数是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5000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···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对比①②两行中位置对应的数，将会发现第②行数是第①行相应的数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，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（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 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5000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···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对比①③两行中位置对应的数，将会发现第③行数是第①行对应的数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倍再加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×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（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×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 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×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5000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×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···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1" dur="2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1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723960" y="1487520"/>
            <a:ext cx="816300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每行数中的第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个数的和是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2800" spc="-1" strike="noStrike" baseline="40000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2800" spc="-1" strike="noStrike" baseline="40000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]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2800" spc="-1" strike="noStrike" baseline="40000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×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9 68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（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968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 ＋（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968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×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9 68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9 68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9 366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78 728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5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1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1208160" y="3432240"/>
            <a:ext cx="939600" cy="1074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44" name=""/>
          <p:cNvSpPr/>
          <p:nvPr/>
        </p:nvSpPr>
        <p:spPr>
          <a:xfrm>
            <a:off x="1908000" y="2745720"/>
            <a:ext cx="0" cy="6858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1498680" y="4350960"/>
            <a:ext cx="0" cy="6858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147400" y="3970440"/>
            <a:ext cx="8384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461960" y="22939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指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081080" y="5037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底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986200" y="37101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665520" y="2832120"/>
            <a:ext cx="497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负数的奇次幂是负数，负数的偶次幂是正数． 正数的任何次幂都是正数，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任何次幂都是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047760" y="76320"/>
            <a:ext cx="2849400" cy="1709640"/>
            <a:chOff x="3047760" y="76320"/>
            <a:chExt cx="2849400" cy="1709640"/>
          </a:xfrm>
        </p:grpSpPr>
        <p:sp>
          <p:nvSpPr>
            <p:cNvPr id="452" name="filecab3"/>
            <p:cNvSpPr/>
            <p:nvPr/>
          </p:nvSpPr>
          <p:spPr>
            <a:xfrm rot="10800000">
              <a:off x="3047760" y="94752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课堂小结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453" name="" descr=""/>
            <p:cNvPicPr/>
            <p:nvPr/>
          </p:nvPicPr>
          <p:blipFill>
            <a:blip r:embed="rId3"/>
            <a:stretch/>
          </p:blipFill>
          <p:spPr>
            <a:xfrm>
              <a:off x="3665520" y="7632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u"/>
  </p:transition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157400" y="1884240"/>
            <a:ext cx="7238880" cy="30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有理数的混合运算应注意的运算顺序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先乘方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再乘除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最后加减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同级运算，从左到右进行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如有括号，先做括号内的运算，按小括号、中括号、大括号依次进行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1157400" y="922320"/>
            <a:ext cx="7507080" cy="577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55" dur="indefinite" restart="never" nodeType="tmRoot">
          <p:childTnLst>
            <p:seq>
              <p:cTn id="1356" dur="indefinite" nodeType="mainSeq">
                <p:childTnLst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7" dur="20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8" dur="20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20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20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20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6" dur="2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2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2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20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20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20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20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847800" y="1658520"/>
            <a:ext cx="7827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把下列各式写成乘方运算的形式，并指出底数，指数各是多少？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844560" y="2666880"/>
            <a:ext cx="7645320" cy="16909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887400" y="4272120"/>
            <a:ext cx="4595760" cy="880920"/>
          </a:xfrm>
          <a:prstGeom prst="rect">
            <a:avLst/>
          </a:prstGeom>
          <a:ln w="0">
            <a:noFill/>
          </a:ln>
        </p:spPr>
      </p:pic>
      <p:grpSp>
        <p:nvGrpSpPr>
          <p:cNvPr id="459" name=""/>
          <p:cNvGrpSpPr/>
          <p:nvPr/>
        </p:nvGrpSpPr>
        <p:grpSpPr>
          <a:xfrm>
            <a:off x="1010880" y="5138640"/>
            <a:ext cx="4248360" cy="947160"/>
            <a:chOff x="1010880" y="5138640"/>
            <a:chExt cx="4248360" cy="947160"/>
          </a:xfrm>
        </p:grpSpPr>
        <p:sp>
          <p:nvSpPr>
            <p:cNvPr id="460" name=""/>
            <p:cNvSpPr/>
            <p:nvPr/>
          </p:nvSpPr>
          <p:spPr>
            <a:xfrm>
              <a:off x="1010880" y="5138640"/>
              <a:ext cx="4248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）底数分别为：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）指数分别为：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，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，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000.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461" name="" descr=""/>
            <p:cNvPicPr/>
            <p:nvPr/>
          </p:nvPicPr>
          <p:blipFill>
            <a:blip r:embed="rId4"/>
            <a:stretch/>
          </p:blipFill>
          <p:spPr>
            <a:xfrm>
              <a:off x="3549600" y="5138640"/>
              <a:ext cx="1614240" cy="61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2" name=""/>
          <p:cNvGrpSpPr/>
          <p:nvPr/>
        </p:nvGrpSpPr>
        <p:grpSpPr>
          <a:xfrm>
            <a:off x="2968200" y="-135000"/>
            <a:ext cx="2849400" cy="1707840"/>
            <a:chOff x="2968200" y="-135000"/>
            <a:chExt cx="2849400" cy="1707840"/>
          </a:xfrm>
        </p:grpSpPr>
        <p:sp>
          <p:nvSpPr>
            <p:cNvPr id="463" name="filecab3"/>
            <p:cNvSpPr/>
            <p:nvPr/>
          </p:nvSpPr>
          <p:spPr>
            <a:xfrm rot="10800000">
              <a:off x="2968200" y="735120"/>
              <a:ext cx="2849400" cy="83736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随堂练习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464" name="" descr=""/>
            <p:cNvPicPr/>
            <p:nvPr/>
          </p:nvPicPr>
          <p:blipFill>
            <a:blip r:embed="rId5"/>
            <a:stretch/>
          </p:blipFill>
          <p:spPr>
            <a:xfrm>
              <a:off x="3585960" y="-135000"/>
              <a:ext cx="1619280" cy="1218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9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1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8" dur="4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4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579600" y="1054080"/>
            <a:ext cx="83214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如果一个数的偶次幂是正数，那么这个数是（  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正数    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负数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有理数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如果有理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满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a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（   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绝对值小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数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大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小于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数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间的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295360" y="1811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10320" y="3692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4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500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1517400" y="763560"/>
            <a:ext cx="6405840" cy="838080"/>
            <a:chOff x="1517400" y="763560"/>
            <a:chExt cx="6405840" cy="838080"/>
          </a:xfrm>
        </p:grpSpPr>
        <p:pic>
          <p:nvPicPr>
            <p:cNvPr id="469" name="" descr=""/>
            <p:cNvPicPr/>
            <p:nvPr/>
          </p:nvPicPr>
          <p:blipFill>
            <a:blip r:embed="rId2"/>
            <a:stretch/>
          </p:blipFill>
          <p:spPr>
            <a:xfrm>
              <a:off x="3058920" y="763560"/>
              <a:ext cx="486432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1517400" y="893880"/>
              <a:ext cx="14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．计算：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1560600" y="1803240"/>
            <a:ext cx="5979960" cy="3897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0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892080" y="919080"/>
            <a:ext cx="812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··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928800" y="2255760"/>
            <a:ext cx="8200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···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＝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  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 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  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 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 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 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···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　　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···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　　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0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所以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zh-CN" sz="3200" spc="-1" strike="noStrike" baseline="30000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zh-CN" sz="3200" spc="-1" strike="noStrike" baseline="30000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0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9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25146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4724280"/>
            <a:ext cx="7543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276360" y="95400"/>
            <a:ext cx="2849400" cy="1709640"/>
            <a:chOff x="3276360" y="95400"/>
            <a:chExt cx="2849400" cy="1709640"/>
          </a:xfrm>
        </p:grpSpPr>
        <p:sp>
          <p:nvSpPr>
            <p:cNvPr id="93" name="filecab3"/>
            <p:cNvSpPr/>
            <p:nvPr/>
          </p:nvSpPr>
          <p:spPr>
            <a:xfrm rot="10800000">
              <a:off x="3276360" y="9666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3894120" y="9540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900000" y="2195640"/>
            <a:ext cx="757260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知识与能力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现实背景中，理解有理数乘方的意义．能进行有理数的乘方运算，并会用计算器进行乘方运算．掌握幂的符号法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952720" y="5594400"/>
            <a:ext cx="2676600" cy="993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407200" y="5562720"/>
            <a:ext cx="2676240" cy="1025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609480" y="5594400"/>
            <a:ext cx="2522520" cy="102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42920" y="2371680"/>
            <a:ext cx="721224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过程与方法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经历“做数学”和“用数学”的过程，感受数学的奇妙性，领会重要的数学建模思想、归纳思想，形成数感、符号感，发展抽象思维．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76360" y="95400"/>
            <a:ext cx="2849400" cy="1709640"/>
            <a:chOff x="3276360" y="95400"/>
            <a:chExt cx="2849400" cy="1709640"/>
          </a:xfrm>
        </p:grpSpPr>
        <p:sp>
          <p:nvSpPr>
            <p:cNvPr id="101" name="filecab3"/>
            <p:cNvSpPr/>
            <p:nvPr/>
          </p:nvSpPr>
          <p:spPr>
            <a:xfrm rot="10800000">
              <a:off x="3276360" y="9666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3894120" y="9540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0120" y="2076480"/>
            <a:ext cx="79725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情感态度与价值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认识数学与生活的密切联系，体验数学活动充满着探索与创造，感受数学的严谨性，提高数学素养．通过参与数学学习活动，对数学有好奇心和求知欲，形成主动学习态度，培养科学探索精神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255480" y="274680"/>
            <a:ext cx="2849400" cy="1709640"/>
            <a:chOff x="3255480" y="274680"/>
            <a:chExt cx="2849400" cy="1709640"/>
          </a:xfrm>
        </p:grpSpPr>
        <p:sp>
          <p:nvSpPr>
            <p:cNvPr id="105" name="filecab3"/>
            <p:cNvSpPr/>
            <p:nvPr/>
          </p:nvSpPr>
          <p:spPr>
            <a:xfrm rot="10800000">
              <a:off x="3255480" y="114588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3873240" y="27468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38280" y="1917720"/>
            <a:ext cx="784836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重点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理数乘方的意义．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难点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幂、底数、指数的概念及其表示，理解有理数乘法运算与乘方间的联系，处理好负数的乘方运算．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814120" y="0"/>
            <a:ext cx="3551400" cy="1692000"/>
            <a:chOff x="2814120" y="0"/>
            <a:chExt cx="3551400" cy="1692000"/>
          </a:xfrm>
        </p:grpSpPr>
        <p:sp>
          <p:nvSpPr>
            <p:cNvPr id="109" name="filecab3"/>
            <p:cNvSpPr/>
            <p:nvPr/>
          </p:nvSpPr>
          <p:spPr>
            <a:xfrm rot="10800000">
              <a:off x="2814120" y="853200"/>
              <a:ext cx="3551400" cy="83844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重难点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3803400" y="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09:01:29Z</dcterms:created>
  <dc:creator/>
  <dc:description/>
  <cp:keywords/>
  <dc:language>en-US</dc:language>
  <cp:lastModifiedBy>微软用户</cp:lastModifiedBy>
  <dcterms:modified xsi:type="dcterms:W3CDTF">2014-06-30T01:01:05Z</dcterms:modified>
  <cp:revision>93</cp:revision>
  <dc:subject/>
  <dc:title>1.5.1有理数的乘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  <property fmtid="{D5CDD505-2E9C-101B-9397-08002B2CF9AE}" pid="3" name="NXTAG2">
    <vt:lpwstr>00080036190000000000010250600207f7000400038000</vt:lpwstr>
  </property>
  <property fmtid="{D5CDD505-2E9C-101B-9397-08002B2CF9AE}" pid="4" name="Version">
    <vt:r8>1</vt:r8>
  </property>
</Properties>
</file>